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79360" y="-360"/>
            <a:ext cx="29847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860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32600"/>
            <a:ext cx="2984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79360" y="8832600"/>
            <a:ext cx="29847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F990-AAA9-452B-9A57-2725FAB2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s shipped to the customer at the forward rate are in fact a perpetual inventory and is the dip stick by which we’ll measure the exchange rat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djustment is the real figure of merit it measures the difference between a perpetual system based on forward contract rates and a periodic system based on spot and historic aver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I thought as a check I ran a fit on 6 years w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historic data with Vlookup? Because I couldn’t control the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F550-F1D1-420A-95C6-230BEC235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BFC5-5563-481B-9C58-0AB3A981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DC12-DE4C-478B-85B8-01C1E3D1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A341-7846-45DA-8824-1AC252E67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07F6-2744-4446-AD60-B164F17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8CFA-AF8C-4F34-9E6B-348D430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0512-0FE3-48FE-8913-47A0E1C7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8E2D-B420-48A9-93AF-A66A6744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33C6-CC83-4EFA-B278-A528D4F2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1B1A-708A-495C-93D9-DF274AA0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8CEE-8C10-4912-B456-D37DDB9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A2AD-96F3-47FB-9432-1D03502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a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9899-3C2D-4C46-A0E3-52C00B050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53080" y="6477120"/>
            <a:ext cx="2381400" cy="190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180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89720"/>
            <a:ext cx="91314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a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6477120"/>
            <a:ext cx="2381400" cy="19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ederalreserve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46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8400" y="228600"/>
            <a:ext cx="58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nventory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2728800"/>
          <a:ext cx="3808440" cy="19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28800"/>
                    <a:ext cx="380844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1662120"/>
          <a:ext cx="3808440" cy="196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62120"/>
                    <a:ext cx="38084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3795840"/>
          <a:ext cx="3809880" cy="196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795840"/>
                    <a:ext cx="38098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91044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3480" y="1268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sitive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0680" y="5611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gative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264D-AA62-452F-BA54-BB8C6D65D4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23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EFC3-501B-4DBA-BC5D-658C134E47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1758960"/>
          <a:ext cx="7772400" cy="39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8960"/>
                    <a:ext cx="777240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1EF1-EA45-4BDB-ABD9-CADF756854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46280" y="1413000"/>
            <a:ext cx="786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anagerial Problem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effects of the exchange rate on CO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imulation to build a model which emulates our inventor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model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 as much as possible to determine causal relationships and, more importantly, sensitivity to change in variou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 was designed to understand the process, not accurately predict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steer the mean exchange rate t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EE51-AA39-476D-BF40-289FD6428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Inventory Process Flow Char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5920" y="2114640"/>
            <a:ext cx="8172360" cy="2219400"/>
            <a:chOff x="385920" y="2114640"/>
            <a:chExt cx="8172360" cy="2219400"/>
          </a:xfrm>
        </p:grpSpPr>
        <p:grpSp>
          <p:nvGrpSpPr>
            <p:cNvPr id="99" name=""/>
            <p:cNvGrpSpPr/>
            <p:nvPr/>
          </p:nvGrpSpPr>
          <p:grpSpPr>
            <a:xfrm>
              <a:off x="385920" y="2868480"/>
              <a:ext cx="752400" cy="501840"/>
              <a:chOff x="385920" y="2868480"/>
              <a:chExt cx="752400" cy="501840"/>
            </a:xfrm>
          </p:grpSpPr>
          <p:sp>
            <p:nvSpPr>
              <p:cNvPr id="100" name=""/>
              <p:cNvSpPr/>
              <p:nvPr/>
            </p:nvSpPr>
            <p:spPr>
              <a:xfrm>
                <a:off x="385920" y="2868480"/>
                <a:ext cx="752400" cy="50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920" y="2868480"/>
                <a:ext cx="752400" cy="501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04360" y="292104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eginning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0040" y="3059280"/>
              <a:ext cx="40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4720" y="319572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 aver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880" y="3333600"/>
              <a:ext cx="4932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324080" y="2868480"/>
              <a:ext cx="657000" cy="501840"/>
              <a:chOff x="1324080" y="2868480"/>
              <a:chExt cx="657000" cy="501840"/>
            </a:xfrm>
          </p:grpSpPr>
          <p:sp>
            <p:nvSpPr>
              <p:cNvPr id="107" name=""/>
              <p:cNvSpPr/>
              <p:nvPr/>
            </p:nvSpPr>
            <p:spPr>
              <a:xfrm>
                <a:off x="1324080" y="2868480"/>
                <a:ext cx="657000" cy="50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24080" y="2868480"/>
                <a:ext cx="657000" cy="501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444680" y="292104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6400" y="305928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29200" y="3195720"/>
              <a:ext cx="115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1840" y="3333600"/>
              <a:ext cx="489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8320" y="3119400"/>
              <a:ext cx="1857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077920" y="2770200"/>
              <a:ext cx="939960" cy="665280"/>
              <a:chOff x="2077920" y="2770200"/>
              <a:chExt cx="939960" cy="665280"/>
            </a:xfrm>
          </p:grpSpPr>
          <p:sp>
            <p:nvSpPr>
              <p:cNvPr id="115" name=""/>
              <p:cNvSpPr/>
              <p:nvPr/>
            </p:nvSpPr>
            <p:spPr>
              <a:xfrm>
                <a:off x="2077920" y="2770200"/>
                <a:ext cx="939960" cy="665280"/>
              </a:xfrm>
              <a:custGeom>
                <a:avLst/>
                <a:gdLst/>
                <a:ahLst/>
                <a:rect l="l" t="t" r="r" b="b"/>
                <a:pathLst>
                  <a:path w="592" h="419">
                    <a:moveTo>
                      <a:pt x="296" y="0"/>
                    </a:moveTo>
                    <a:lnTo>
                      <a:pt x="0" y="210"/>
                    </a:lnTo>
                    <a:lnTo>
                      <a:pt x="296" y="419"/>
                    </a:lnTo>
                    <a:lnTo>
                      <a:pt x="592" y="21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7920" y="2770200"/>
                <a:ext cx="939960" cy="665280"/>
              </a:xfrm>
              <a:custGeom>
                <a:avLst/>
                <a:gdLst/>
                <a:ahLst/>
                <a:rect l="l" t="t" r="r" b="b"/>
                <a:pathLst>
                  <a:path w="592" h="419">
                    <a:moveTo>
                      <a:pt x="296" y="0"/>
                    </a:moveTo>
                    <a:lnTo>
                      <a:pt x="0" y="210"/>
                    </a:lnTo>
                    <a:lnTo>
                      <a:pt x="296" y="419"/>
                    </a:lnTo>
                    <a:lnTo>
                      <a:pt x="592" y="210"/>
                    </a:lnTo>
                    <a:lnTo>
                      <a:pt x="2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385360" y="297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93640" y="311472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o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7280" y="325296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981080" y="3103560"/>
              <a:ext cx="9684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21040" y="2114640"/>
              <a:ext cx="752400" cy="503280"/>
              <a:chOff x="2921040" y="2114640"/>
              <a:chExt cx="752400" cy="503280"/>
            </a:xfrm>
          </p:grpSpPr>
          <p:sp>
            <p:nvSpPr>
              <p:cNvPr id="122" name=""/>
              <p:cNvSpPr/>
              <p:nvPr/>
            </p:nvSpPr>
            <p:spPr>
              <a:xfrm>
                <a:off x="2921040" y="2114640"/>
                <a:ext cx="7524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21040" y="2114640"/>
                <a:ext cx="752400" cy="5032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038760" y="216684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C 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0200" y="230508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se l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97360" y="2443320"/>
              <a:ext cx="4896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8080" y="2365200"/>
              <a:ext cx="372960" cy="405000"/>
            </a:xfrm>
            <a:custGeom>
              <a:avLst/>
              <a:gdLst/>
              <a:ahLst/>
              <a:rect l="l" t="t" r="r" b="b"/>
              <a:pathLst>
                <a:path w="235" h="255">
                  <a:moveTo>
                    <a:pt x="0" y="255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10360" y="214308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6520" y="228132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921040" y="3621240"/>
              <a:ext cx="752400" cy="502920"/>
              <a:chOff x="2921040" y="3621240"/>
              <a:chExt cx="752400" cy="502920"/>
            </a:xfrm>
          </p:grpSpPr>
          <p:sp>
            <p:nvSpPr>
              <p:cNvPr id="131" name=""/>
              <p:cNvSpPr/>
              <p:nvPr/>
            </p:nvSpPr>
            <p:spPr>
              <a:xfrm>
                <a:off x="2921040" y="3621240"/>
                <a:ext cx="752400" cy="50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21040" y="3621240"/>
                <a:ext cx="752400" cy="50292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994840" y="36734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apan 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280" y="3811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ced 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9040" y="3949560"/>
              <a:ext cx="17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7360" y="4087800"/>
              <a:ext cx="4896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8080" y="3435480"/>
              <a:ext cx="372960" cy="436320"/>
            </a:xfrm>
            <a:custGeom>
              <a:avLst/>
              <a:gdLst/>
              <a:ahLst/>
              <a:rect l="l" t="t" r="r" b="b"/>
              <a:pathLst>
                <a:path w="235" h="275">
                  <a:moveTo>
                    <a:pt x="0" y="0"/>
                  </a:moveTo>
                  <a:lnTo>
                    <a:pt x="0" y="275"/>
                  </a:lnTo>
                  <a:lnTo>
                    <a:pt x="235" y="27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47080" y="367344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6120" y="381168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803760" y="2211480"/>
              <a:ext cx="752400" cy="252360"/>
              <a:chOff x="3803760" y="2211480"/>
              <a:chExt cx="752400" cy="252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803760" y="2211480"/>
                <a:ext cx="752400" cy="25236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240" y="0"/>
                    </a:moveTo>
                    <a:cubicBezTo>
                      <a:pt x="108" y="0"/>
                      <a:pt x="0" y="111"/>
                      <a:pt x="0" y="248"/>
                    </a:cubicBezTo>
                    <a:cubicBezTo>
                      <a:pt x="0" y="385"/>
                      <a:pt x="108" y="496"/>
                      <a:pt x="240" y="496"/>
                    </a:cubicBezTo>
                    <a:lnTo>
                      <a:pt x="1249" y="496"/>
                    </a:lnTo>
                    <a:cubicBezTo>
                      <a:pt x="1381" y="496"/>
                      <a:pt x="1488" y="385"/>
                      <a:pt x="1488" y="248"/>
                    </a:cubicBezTo>
                    <a:cubicBezTo>
                      <a:pt x="1488" y="111"/>
                      <a:pt x="1381" y="0"/>
                      <a:pt x="1249" y="0"/>
                    </a:cubicBez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03760" y="2211480"/>
                <a:ext cx="752400" cy="25236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240" y="0"/>
                    </a:moveTo>
                    <a:cubicBezTo>
                      <a:pt x="108" y="0"/>
                      <a:pt x="0" y="111"/>
                      <a:pt x="0" y="248"/>
                    </a:cubicBezTo>
                    <a:cubicBezTo>
                      <a:pt x="0" y="385"/>
                      <a:pt x="108" y="496"/>
                      <a:pt x="240" y="496"/>
                    </a:cubicBezTo>
                    <a:lnTo>
                      <a:pt x="1249" y="496"/>
                    </a:lnTo>
                    <a:cubicBezTo>
                      <a:pt x="1381" y="496"/>
                      <a:pt x="1488" y="385"/>
                      <a:pt x="1488" y="248"/>
                    </a:cubicBezTo>
                    <a:cubicBezTo>
                      <a:pt x="1488" y="111"/>
                      <a:pt x="1381" y="0"/>
                      <a:pt x="1249" y="0"/>
                    </a:cubicBezTo>
                    <a:lnTo>
                      <a:pt x="24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943800" y="229716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13200" y="243540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673440" y="2341440"/>
              <a:ext cx="130320" cy="237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038480" y="3629160"/>
              <a:ext cx="752760" cy="495000"/>
              <a:chOff x="4038480" y="3629160"/>
              <a:chExt cx="752760" cy="495000"/>
            </a:xfrm>
          </p:grpSpPr>
          <p:sp>
            <p:nvSpPr>
              <p:cNvPr id="147" name=""/>
              <p:cNvSpPr/>
              <p:nvPr/>
            </p:nvSpPr>
            <p:spPr>
              <a:xfrm>
                <a:off x="4038480" y="3629160"/>
                <a:ext cx="752760" cy="49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8480" y="3629160"/>
                <a:ext cx="752760" cy="495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58000" y="368136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 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0120" y="3819600"/>
              <a:ext cx="56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oice fro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2280" y="395748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ap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409572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35480" y="2960640"/>
              <a:ext cx="88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ultiple Release 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68880" y="309888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099040" y="3629160"/>
              <a:ext cx="754200" cy="503280"/>
              <a:chOff x="5099040" y="3629160"/>
              <a:chExt cx="754200" cy="503280"/>
            </a:xfrm>
          </p:grpSpPr>
          <p:sp>
            <p:nvSpPr>
              <p:cNvPr id="156" name=""/>
              <p:cNvSpPr/>
              <p:nvPr/>
            </p:nvSpPr>
            <p:spPr>
              <a:xfrm>
                <a:off x="5099040" y="3629160"/>
                <a:ext cx="7542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99040" y="3629160"/>
                <a:ext cx="754200" cy="5032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217120" y="368136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loc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76800" y="381960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91240" y="3871800"/>
              <a:ext cx="30780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3863880"/>
              <a:ext cx="30780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813800" y="3629160"/>
              <a:ext cx="744480" cy="495000"/>
              <a:chOff x="7813800" y="3629160"/>
              <a:chExt cx="744480" cy="495000"/>
            </a:xfrm>
          </p:grpSpPr>
          <p:sp>
            <p:nvSpPr>
              <p:cNvPr id="163" name=""/>
              <p:cNvSpPr/>
              <p:nvPr/>
            </p:nvSpPr>
            <p:spPr>
              <a:xfrm>
                <a:off x="7813800" y="3629160"/>
                <a:ext cx="744480" cy="49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13800" y="3629160"/>
                <a:ext cx="744480" cy="495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888680" y="3681360"/>
              <a:ext cx="36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8680" y="385272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89760" y="4022640"/>
              <a:ext cx="5724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6320" y="3863880"/>
              <a:ext cx="35748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78320" y="3154320"/>
              <a:ext cx="2435400" cy="474840"/>
            </a:xfrm>
            <a:custGeom>
              <a:avLst/>
              <a:gdLst/>
              <a:ahLst/>
              <a:rect l="l" t="t" r="r" b="b"/>
              <a:pathLst>
                <a:path w="4811" h="938">
                  <a:moveTo>
                    <a:pt x="4790" y="474"/>
                  </a:moveTo>
                  <a:lnTo>
                    <a:pt x="4790" y="10"/>
                  </a:lnTo>
                  <a:lnTo>
                    <a:pt x="4800" y="21"/>
                  </a:lnTo>
                  <a:lnTo>
                    <a:pt x="64" y="21"/>
                  </a:lnTo>
                  <a:lnTo>
                    <a:pt x="75" y="10"/>
                  </a:lnTo>
                  <a:lnTo>
                    <a:pt x="75" y="867"/>
                  </a:lnTo>
                  <a:cubicBezTo>
                    <a:pt x="75" y="873"/>
                    <a:pt x="70" y="878"/>
                    <a:pt x="64" y="878"/>
                  </a:cubicBezTo>
                  <a:cubicBezTo>
                    <a:pt x="59" y="878"/>
                    <a:pt x="54" y="873"/>
                    <a:pt x="54" y="867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lnTo>
                    <a:pt x="4800" y="0"/>
                  </a:lnTo>
                  <a:cubicBezTo>
                    <a:pt x="4806" y="0"/>
                    <a:pt x="4811" y="5"/>
                    <a:pt x="4811" y="10"/>
                  </a:cubicBezTo>
                  <a:lnTo>
                    <a:pt x="4811" y="474"/>
                  </a:lnTo>
                  <a:cubicBezTo>
                    <a:pt x="4811" y="480"/>
                    <a:pt x="4806" y="485"/>
                    <a:pt x="4800" y="485"/>
                  </a:cubicBezTo>
                  <a:cubicBezTo>
                    <a:pt x="4795" y="485"/>
                    <a:pt x="4790" y="480"/>
                    <a:pt x="4790" y="474"/>
                  </a:cubicBezTo>
                  <a:close/>
                  <a:moveTo>
                    <a:pt x="128" y="810"/>
                  </a:moveTo>
                  <a:lnTo>
                    <a:pt x="64" y="938"/>
                  </a:lnTo>
                  <a:lnTo>
                    <a:pt x="0" y="810"/>
                  </a:lnTo>
                  <a:lnTo>
                    <a:pt x="128" y="810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161040" y="3394080"/>
              <a:ext cx="1295280" cy="939960"/>
              <a:chOff x="6161040" y="3394080"/>
              <a:chExt cx="1295280" cy="939960"/>
            </a:xfrm>
          </p:grpSpPr>
          <p:sp>
            <p:nvSpPr>
              <p:cNvPr id="171" name=""/>
              <p:cNvSpPr/>
              <p:nvPr/>
            </p:nvSpPr>
            <p:spPr>
              <a:xfrm>
                <a:off x="6161040" y="3394080"/>
                <a:ext cx="1295280" cy="939960"/>
              </a:xfrm>
              <a:custGeom>
                <a:avLst/>
                <a:gdLst/>
                <a:ahLst/>
                <a:rect l="l" t="t" r="r" b="b"/>
                <a:pathLst>
                  <a:path w="816" h="592">
                    <a:moveTo>
                      <a:pt x="408" y="0"/>
                    </a:moveTo>
                    <a:lnTo>
                      <a:pt x="0" y="296"/>
                    </a:lnTo>
                    <a:lnTo>
                      <a:pt x="408" y="592"/>
                    </a:lnTo>
                    <a:lnTo>
                      <a:pt x="816" y="29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61040" y="3394080"/>
                <a:ext cx="1295280" cy="939960"/>
              </a:xfrm>
              <a:custGeom>
                <a:avLst/>
                <a:gdLst/>
                <a:ahLst/>
                <a:rect l="l" t="t" r="r" b="b"/>
                <a:pathLst>
                  <a:path w="816" h="592">
                    <a:moveTo>
                      <a:pt x="408" y="0"/>
                    </a:moveTo>
                    <a:lnTo>
                      <a:pt x="0" y="296"/>
                    </a:lnTo>
                    <a:lnTo>
                      <a:pt x="408" y="592"/>
                    </a:lnTo>
                    <a:lnTo>
                      <a:pt x="816" y="296"/>
                    </a:lnTo>
                    <a:lnTo>
                      <a:pt x="40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580800" y="36734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 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76480" y="381168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oi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80080" y="394956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81360" y="3863880"/>
              <a:ext cx="357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9E0A-A49F-4A61-828D-FCF832F2F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Inventory at Hamamatsu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iodic Inventor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s go into inventory at the spot exchang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and ending inventory are calculated at a weighted average cost based on the lifetime sale of produ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s shipped to the customer are valued at forward yen contract price or “hedge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66680" y="2438280"/>
                <a:ext cx="6585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ginningInventor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rchases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GoodsAvialableforSale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dingInventory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nventoryLeftOver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GS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GOGS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227C-C8CC-4B41-B854-9F91A1291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Building the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571760"/>
            <a:ext cx="822960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3379-5D4F-4807-B32B-94E25500C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Building the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72400" cy="18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994D-BE45-4622-8D45-704931C6B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rate data was obtained from: </a:t>
            </a:r>
            <a:r>
              <a:rPr b="0" lang="en-US" sz="2000" spc="-1" strike="noStrike" u="sng">
                <a:solidFill>
                  <a:srgbClr val="85adff"/>
                </a:solidFill>
                <a:uFillTx/>
                <a:latin typeface="Times New Roman"/>
                <a:hlinkClick r:id="rId1"/>
              </a:rPr>
              <a:t>www.federalreserv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Ball was used to obtain a fit for one year of daily exchange r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102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ev ¥ 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1DB-F88B-4270-AE92-9FC608D1E6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year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4.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de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62520" y="2260440"/>
            <a:ext cx="43434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94C0-CEF3-4033-B45D-BD03D6467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705720" cy="201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48680" y="32004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5320" y="57913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ta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6934320" cy="21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83EB-E18A-4D99-8BEB-A251A64BF7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16:49:56Z</dcterms:created>
  <dc:creator>John Gilmore, MSEE</dc:creator>
  <dc:description/>
  <dc:language>en-US</dc:language>
  <cp:lastModifiedBy>Earl Hergert</cp:lastModifiedBy>
  <cp:lastPrinted>2003-05-19T20:11:42Z</cp:lastPrinted>
  <dcterms:modified xsi:type="dcterms:W3CDTF">2005-08-06T11:16:24Z</dcterms:modified>
  <cp:revision>398</cp:revision>
  <dc:subject/>
  <dc:title>Hamamatsu</dc:title>
</cp:coreProperties>
</file>